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0C9C-678F-446C-8652-9B408CE55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BBA3-9783-4754-A0C4-E1E66411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3E5E0F-FFAA-4A31-BCF4-C164B3A1E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2BC7CC-CB0C-437D-A665-68620D07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01F66-7B21-4B39-8D54-2656942D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0DCFC8-ED56-4F0E-9CB3-A1CDB08C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BC056-FDE8-4E20-9C3C-2787629D9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77F87-EC6E-4D5A-85C4-8441D421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5295A-F30B-427B-886F-9BC39283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9FDF2-4773-460F-8A99-80EA87562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83293-663D-4AD2-84F9-A036DCDD7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5E576-7A4B-4B25-8D93-0842323E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DD4C-F816-4EE5-8BB4-DB833CEE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A85B43-26AC-45CE-9640-7C9BB213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669A92-4E56-4A91-A425-8DB3D1550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23F05-ADD1-4143-BBC5-6C79FB1E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88111-81C4-4EDC-9755-13A1502B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CB796-8CC8-4CF4-BB08-B143C3828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EDCE59-3088-4421-AB89-EAC7B0F1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A50B2-5873-4002-8A9D-7740448D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FA6E51-4C68-4030-8539-CD53BA3E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9D942-CAC6-4CE7-82DF-352426FE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505E0-FB8F-44CC-9A9B-F1F621C4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4978-0EB2-4DB7-A590-F217521B9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FC798-2C98-4948-AFCE-9F1396F19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FF5FB1-7C5B-4106-9516-4CD92FA36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8D0EA1-05C9-4048-990D-F0D87986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9C7AE-0EBD-4912-A85F-476047E3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34805-2B36-4ACA-83CB-035931B4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1F0014-5FB9-400D-8D35-7CC2401C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D84385-0F49-4A19-9F22-BA1F6D4F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F8710-EE64-4F75-A5BE-4AA0806C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E496A4-BB50-478F-AD9E-538BF6DA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9311CF-7A01-4820-8D38-1DF69375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6FED8-EF14-4D1E-8F38-B72ED8D06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23CD5E-9762-4787-8E26-B5690BA2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C406A-9E9A-474E-9743-2651F0D0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3C2F0-4C48-497C-A891-6F8891F3A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4DEAF-FE88-4D8E-9044-6E5146C0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B79B3C-60C4-47B8-A1DF-706B8CB7B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C4C5D-680D-44AA-A6AD-F98BA40A8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E86F8D-A6C9-4D1F-81F2-78452675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9B733E-93E8-4C69-9D50-FFA273753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CA5B3-6F32-49DB-90DB-E21F77D9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B74D6B-955D-45EC-889D-F1B1FAF4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E3FD-D1E0-4699-8345-EE81F46D1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7F6F2-7248-42E5-9F30-287D781D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30162-9975-4322-A6AB-0A00B042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80A2D-FA67-4D0F-9F0D-0FB28ED7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040AA-38D4-42E7-980F-F42BCBAF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180DD-9143-4453-9F26-3B3DF9CF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94FCC0-0D43-487D-9680-725D9B303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8D73A8-1FF4-4E8A-AA99-C2716B42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388370-86EA-4C85-AE2C-D057A009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75A21F-E0D8-4F4C-BAAB-316FEB3F0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A90215-0E5A-4DC1-A095-86C5007A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74DB-BE11-4B8A-93C1-47717D96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585FB1-08B3-481F-BA1A-4AFEE85F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5A9364-9E87-4363-ADAF-6FF7B21A3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0010BA-1264-4557-A75F-85948134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2B54A0-F295-4F76-BC37-6806C333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9CBB5E-3126-4FFF-8664-664E9CA1C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D476B4-524D-450A-8B8B-59750792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E26928-406D-4A8C-AC83-2EDF73934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D91951-FBE9-42BA-9345-00A34089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E09F4A-0E31-468D-A46C-9CB84AA2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A0667C-3D51-4279-8F17-DCCCAF12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ECFEB-A5CF-4537-BEC4-AAA07D72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7DBE99-66B6-493F-8374-27598AF8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9351FB-E64E-44BA-8346-F5240852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8D107A-2681-4242-9CF8-844112D7E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B5BB8E-8518-4CE7-B9E5-C730820E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8CE24C-4CD3-44C5-81E8-DA2E7202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96364F-28FB-404D-946D-3048C81E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12D18A-ADD0-4EB8-8BF5-39CD6C1D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DD32F8-9AC6-4841-B78F-AB2C1FE5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695C97-8727-427F-A38E-42E9566DA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F855C1-F8E9-4B78-8200-3F5E2408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C32AB-6542-4225-8B09-C7D92394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1F9713-5021-46BF-A5EE-AC7D4E3E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0EDD22-B324-46BC-8E8A-BA023303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36756B-E642-479E-8C31-C7F477E5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7B8E95-DFA2-4A0D-9156-A57A3481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DD5F80-0050-40B2-862D-38F4E0B0C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E86A3B-B0D8-4B60-8465-646007AE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59EB36-B4AF-4C2F-BC3C-29092B4B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C7630A-0BB1-43F6-A9A3-770076D1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06B470-61AE-4101-885C-D4A7898C9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21DFF4-3E11-4D8F-B962-A2521F7AC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B8DB3-FCE0-4077-ABEF-A37F9B20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861E4D-1F45-4412-95C1-6D41594D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53E71B-B790-4235-A098-2F0C474D8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633A52-B9A6-4C3C-8126-1A3FDF69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E8BD24-67DF-4248-94A0-2C16FA5C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CD32D5-8A56-4E38-A390-40F4A9F5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963C25-5EB3-4349-AD32-8ED8F784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2FF02F-1BFF-442B-A31A-C9DDAA8D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EA6372-6FB7-4876-847F-A1B018B9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C8D34D-FE52-4939-99B9-8995E601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E84DBB-5AD4-406B-978D-BECFC316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5DBB-FEDD-4E86-93E6-F8C4855B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2D2789-9A6C-4131-BFDD-10324FDA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751F9C-EFF6-4C20-87B9-90F639CEF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EFB254-3C24-46FB-8C81-F8D39BEB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BDAF4F-8B6C-4E2F-B38F-F82FFDF79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366C3D-0F7D-4434-A1A6-C5284F5C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E73A11-0526-4489-8CCC-75E0FA843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2C2CD9-3B0E-4433-A8C3-08509CB0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23CA73-978C-4579-AE1A-D53F32E3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C5693D-7392-4FD9-9335-12F61152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DA2A4D-8BEC-4DC8-ACBE-F0D162088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CC8F-21B1-4F47-9A94-EDDC8873E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D8FEB-9D31-437B-9607-0B17AFAF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CF09C6-C1ED-4A26-BE98-C0FA7FF3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3823DB-2521-4B19-83B3-9525F961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977FCB-BE6E-4193-AF7C-70E6C33E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5DCDF6-346C-4E38-8E9B-BB0138311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56C4E2-6AFE-406E-96A1-3987C8D9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0626CE-B13E-4501-A371-C83154114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C80C30-2E90-492A-B7C8-619CDF46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4309DA-DD37-4F40-8AA0-243C82A4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B6E2E3-2321-4B29-BE39-056C7CD9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F9F386-06DE-4661-86C8-118E0F8B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DDA6F-4661-492D-A4CD-80B033CD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576CD8-C9F9-4552-ABFB-632D9789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92FCEF-EA56-4672-B04B-A26FD254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CEFE6B-77CA-4046-A46C-1CC2D120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4A6A7E-D552-4291-B6D3-5AD31167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4C33A9-2A17-41B8-8FFD-773EF5CF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5D0AD7-0AF2-4FBE-B700-525C8C4A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EDAB39-C603-4461-B436-82104A68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CBBBD40-C225-4829-B7B1-63200FC1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268B64-1397-4F41-B90F-916B7B0C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A4DCC6-A5F7-41DA-B010-2B623C69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BA34E-E7C9-4422-AE58-B62E42A6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1C0E10-B609-4C13-8B0D-0DF67A1D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439161-53A5-47EE-AD87-C9D4539D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8910E3-9FFE-412C-98E2-D2350A96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01005B-5178-4290-AA27-578F631A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F2DF91-B8E8-4C42-ADA2-D277A2E6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0F4381-18ED-4413-9D2E-807281FB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F45FDE-D166-4BB4-84BE-92302A78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BF4D37-1618-42A2-BEAE-E50E90EF8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32D979-7477-4411-B31D-251E47EAE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FECBDE-28A3-463F-BCD6-CA3B6564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FCCC4-2D4E-460D-8656-4C8D2D93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24E8F3-737C-4C80-A57A-7EA5C976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32A0EF-4474-4AB9-8061-88298DDA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13B368-B108-4E49-903F-C629D7E1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8C4D1C-75C3-409B-8A3B-F65C27B5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2F13C6-E6DD-4D41-A135-D3D4BCF8D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51BD5E-B76A-4198-BAA3-C9EEB783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74D743-4241-47CD-AB1D-5565E797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5C8321-7843-4A27-805D-C96022027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61CD48-B0F4-4548-B60D-4A0F554A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0254D6-707A-469C-8E78-5FD9F80B7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0F23-08C5-41DC-A479-682FB295C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1E58D5-D914-49A4-8A96-17584397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0AC584-3813-4E96-8FC0-D79EE19C6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B29B7C-BFE2-4D9D-A358-C3C33580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58A3D9-666D-4418-8596-7085EF342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8E4F21-4BC7-4283-B801-7FFDAB20B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57B8E5-EA73-4E96-B827-FCF0C48F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8A8EE5-F402-443F-BCC4-6DB552C1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49A930-A0C6-4699-AB61-9DDEDD1B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000D0B-8255-42B7-8268-0E5C2C56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0D1C46-7F05-4313-BAFC-C8AEEE37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AFCD5-23E4-4080-80D0-1A4AACA88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3F9B5C-C2A3-49A0-AC46-730FC1D2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052CE2-E481-4BC4-B54C-DCFF2CDB8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1E0B6E-33DE-48A8-8267-C438B93C3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71ABC-C71C-4796-8B72-8C5208D7F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E7668-BDF3-4C8E-86A1-DF1EFC3C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1772F-597B-42D5-B4ED-3B11C66C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A1C37-F31A-4B89-98D9-F1F52B3B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4810-441D-4314-B15B-8C0D4065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FDAEF-96F5-4B06-97F3-A6BDAF2E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7F1A9B-95C3-41C6-B485-D376B8ED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CDB89-7FB0-4F47-A35C-EA33E42A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4C97E-A9EC-431A-8ECD-9C90AAC0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4D864-9BBA-4543-9D31-E9653236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81D16-1A2D-4D40-B672-AB82E0432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A3B6C-F4E3-4436-94AF-7B6F47AE3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D08D7-60AE-4A4A-9E41-7AD3D23A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DAD54-45FB-43F1-979B-36EC97E8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6E550-464B-4536-A347-6458F1B6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CCF5-9F0E-45C4-BFB3-41252069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C12E2-14E4-4BE4-9CBA-D86C956D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10583-7F73-45EB-94D0-BCC0D6A6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367A1-51D0-4A24-8705-D1AC9425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DF312-C299-44E2-96D9-0CE3A5FF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3229B-A266-4ADA-89F9-A4D6ACC5E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183B2-6B22-4527-A028-0E35F72E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76D5A-90B6-4635-9742-4D9D21D1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2EF37-78C7-4EB5-870D-AEBFC709F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AB5940-32B8-4D0A-AB49-C6DC4AFF7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BB4B5-9341-4928-91B1-F1F42CE3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21DC-6347-4045-9E02-311ABE8E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F2990-3977-4DFF-B125-0A289C50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64416-E92F-4F48-9BA4-718F40372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682AF-9C6E-4158-A276-5E1CAD9A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39243-BDA4-4932-AB6E-65DDB0FA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385CA-B764-4637-AE19-DB403CD8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B22FB-6A78-456A-BBDB-BF50E88F8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D52DC-13E3-49E1-8D58-CD25D8B7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4D33E-517B-4E01-91EB-FEEEB8A4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F9FF0-2783-4E93-A335-058535F0A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85105-ACDA-49E1-8F0B-E1BECC00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55B6-1840-4D2A-A87F-B70A1297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ABD133-ED73-4C22-9A77-FDB3DF49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63078-4845-4F63-9FB1-906246FC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B17C8-AE61-4A19-9115-F4D40919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0744A-E3E5-406F-B677-B32B9DCF4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5B6CC-255B-44CB-B3D4-98C2C043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1C7B2-C417-4857-92D0-0D74BCD3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C92AD-2D40-496F-BC0F-D3D63952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6A934-352C-4F33-AB26-928F5F59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CAE6E-7AB3-428E-8FD3-BE98B94C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96536-5F52-4779-993A-0A79EDE9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FF7A-F908-4FE8-8528-99FD0CAC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CFD7B-0CEF-4FF6-961D-7D6F7F7D1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2A39D-A13C-4C5A-A4BE-99FC2D146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A4721-6428-4249-B1CE-0D097DCA1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7D5947-FF26-4D93-B11D-2B43989E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6FAE2-6EF7-44D5-B7AF-56931F44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DECC9-5539-45B4-89C3-62CC50B5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58A3F-1CD9-48C6-B056-B4E6978B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8D095-309F-454D-9CFA-F7FC2CDC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D94CC-3D46-4D99-9807-EEB2E245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C0786D-AC38-4FDD-BEBA-2819FE70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BCEE-B503-4F29-B897-D49BB73BF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C16B9-C586-4206-A040-5AFC2CDB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FE8722-AFC7-4AC1-82A8-168D6771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ED0BE-760A-4A0A-9E57-E84A77061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B2AF4-1065-49F5-850D-7AF1DA961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3D831-41DF-4C5C-8618-63C7CA4C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C0C76-D86C-4629-B8C7-C4FC03BD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A90FE-A276-4559-9860-B3DE75BE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FB4A4-14EA-43B0-9B28-44802194C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879F8E-276C-4919-BCA5-2802B784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80679E-E50A-4CC5-AA55-AFFD1BD6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AB25-E541-4EB1-8D5E-39FBB9355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D4BF0-9A3B-45D6-8F75-1F34CCB7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4EBB1-9151-4ACE-BF2D-D02233DC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D11B9-4F29-4934-B270-DF518EC0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5FF637-4009-418A-986C-EB77F893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7DB34-5884-46FF-A903-0FAEE2CF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802C0-A8E2-485D-909C-7C401827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C40264-F421-4C24-92E6-76FC6743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BC93E-569A-4FED-B522-85D9450B9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5A12C-156F-4085-BC15-BC2843E0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F2A990-0D0A-4D2B-8AE6-D831849F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99B1-A20A-4EB1-99A4-F3AED9903A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7F768-BD9E-451C-BB51-C01E567C88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812C-4C0E-48A4-9D72-8503AA2BDA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F259-0191-4C1C-B358-69472BADD2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D62D-30B4-4A9E-9EA4-7319506CDD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B1A4-422D-4FBB-A7D4-7B26E6B47F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2078D-8A80-479C-A4F5-4EE7942932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E3AE-08A4-4ED9-A933-1DE5EE9CF5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1359-B3B9-433B-82C7-67EBF7DFB9D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DAB79-7FE4-4140-9F32-0CF2FD80F4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FF09-56C1-452B-89C3-FEC0212024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220B-756A-4A8E-9184-65124ED201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3B80-4184-4D18-A222-B00C75B2875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52DC-4915-44A0-8B95-8A1D0E7A30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3537-EA60-4D96-B406-603A5234F7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1531-D558-4237-B0EB-4FCF6D1CC0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FDBF-92A3-4A07-AD40-99F0CDD69A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4AA2-616A-47E7-8AB6-76CDA195C3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BF5D-C941-41F4-9E61-8F5F270139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724BB-B16F-43DF-953E-490A08AAF9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1AB9-EA81-48B0-8215-D28B367A60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DA1B-CFDA-41E3-A0FC-22210FD9F3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2D40-6C5B-409E-9649-30FD6D8FBB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B7FE-2CAA-4665-82EF-764342E3B9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D3DF-D1BA-4095-B934-9EAC70A880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42D2-B807-40D8-B2A4-B8CC20A8AC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5B2F-C19D-4B0C-83F2-AE1913DC9A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4DB6-19E9-4032-988D-F81C03EADB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8F23-EF82-4334-81E5-CA58BB3EBC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735D-7EA8-4549-87D5-472B4A9F46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14B2C-09F8-41DA-8557-41533A8202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1260-7279-4D62-84FB-1F5582DFEA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6A11-4F59-413D-8C02-BC2868A508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3BA5-B40D-4228-948F-FED342B45F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383A7-A7D6-45CC-AC1A-6FBD474516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CE27B-ED7F-4343-8432-AE0F709EA0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5A77-E0A8-4D14-A4B7-085FBD339A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43DA-E1B1-4275-9DD0-53C41DE29A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0E57-5C41-4D2A-857E-FE2BE23921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281C-C608-40F9-9769-7FEF33639D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1395360" y="3162240"/>
            <a:ext cx="635328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1" descr=""/>
          <p:cNvPicPr/>
          <p:nvPr/>
        </p:nvPicPr>
        <p:blipFill>
          <a:blip r:embed="rId1"/>
          <a:stretch/>
        </p:blipFill>
        <p:spPr>
          <a:xfrm>
            <a:off x="304920" y="1457280"/>
            <a:ext cx="85341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2" descr=""/>
          <p:cNvPicPr/>
          <p:nvPr/>
        </p:nvPicPr>
        <p:blipFill>
          <a:blip r:embed="rId1"/>
          <a:stretch/>
        </p:blipFill>
        <p:spPr>
          <a:xfrm>
            <a:off x="638280" y="1090440"/>
            <a:ext cx="7867440" cy="52675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2"/>
          <a:stretch/>
        </p:blipFill>
        <p:spPr>
          <a:xfrm>
            <a:off x="285840" y="108576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3"/>
          <a:stretch/>
        </p:blipFill>
        <p:spPr>
          <a:xfrm>
            <a:off x="285840" y="1488960"/>
            <a:ext cx="8786880" cy="22640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4"/>
          <a:stretch/>
        </p:blipFill>
        <p:spPr>
          <a:xfrm>
            <a:off x="285840" y="379080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5"/>
          <a:stretch/>
        </p:blipFill>
        <p:spPr>
          <a:xfrm>
            <a:off x="285840" y="415764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6"/>
          <a:stretch/>
        </p:blipFill>
        <p:spPr>
          <a:xfrm>
            <a:off x="285840" y="4726080"/>
            <a:ext cx="8786880" cy="69696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7"/>
          <a:stretch/>
        </p:blipFill>
        <p:spPr>
          <a:xfrm>
            <a:off x="285840" y="546588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8"/>
          <a:stretch/>
        </p:blipFill>
        <p:spPr>
          <a:xfrm>
            <a:off x="285840" y="5943600"/>
            <a:ext cx="878688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1" descr=""/>
          <p:cNvPicPr/>
          <p:nvPr/>
        </p:nvPicPr>
        <p:blipFill>
          <a:blip r:embed="rId1"/>
          <a:stretch/>
        </p:blipFill>
        <p:spPr>
          <a:xfrm>
            <a:off x="714240" y="1000080"/>
            <a:ext cx="7981920" cy="175248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2" descr=""/>
          <p:cNvPicPr/>
          <p:nvPr/>
        </p:nvPicPr>
        <p:blipFill>
          <a:blip r:embed="rId2"/>
          <a:stretch/>
        </p:blipFill>
        <p:spPr>
          <a:xfrm>
            <a:off x="214200" y="4214880"/>
            <a:ext cx="8429760" cy="22003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3"/>
          <a:stretch/>
        </p:blipFill>
        <p:spPr>
          <a:xfrm>
            <a:off x="285840" y="1050840"/>
            <a:ext cx="8786880" cy="6937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4"/>
          <a:stretch/>
        </p:blipFill>
        <p:spPr>
          <a:xfrm>
            <a:off x="285840" y="1846440"/>
            <a:ext cx="878688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Picture 1" descr=""/>
          <p:cNvPicPr/>
          <p:nvPr/>
        </p:nvPicPr>
        <p:blipFill>
          <a:blip r:embed="rId1"/>
          <a:stretch/>
        </p:blipFill>
        <p:spPr>
          <a:xfrm>
            <a:off x="681120" y="785880"/>
            <a:ext cx="7781760" cy="49910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2" descr=""/>
          <p:cNvPicPr/>
          <p:nvPr/>
        </p:nvPicPr>
        <p:blipFill>
          <a:blip r:embed="rId2"/>
          <a:stretch/>
        </p:blipFill>
        <p:spPr>
          <a:xfrm>
            <a:off x="652320" y="5838840"/>
            <a:ext cx="6991560" cy="87624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4" descr=""/>
          <p:cNvPicPr/>
          <p:nvPr/>
        </p:nvPicPr>
        <p:blipFill>
          <a:blip r:embed="rId3"/>
          <a:stretch/>
        </p:blipFill>
        <p:spPr>
          <a:xfrm>
            <a:off x="285840" y="586260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4"/>
          <a:stretch/>
        </p:blipFill>
        <p:spPr>
          <a:xfrm>
            <a:off x="285840" y="6300720"/>
            <a:ext cx="878688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1" descr=""/>
          <p:cNvPicPr/>
          <p:nvPr/>
        </p:nvPicPr>
        <p:blipFill>
          <a:blip r:embed="rId1"/>
          <a:stretch/>
        </p:blipFill>
        <p:spPr>
          <a:xfrm>
            <a:off x="690480" y="1190520"/>
            <a:ext cx="7763040" cy="50961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2"/>
          <a:stretch/>
        </p:blipFill>
        <p:spPr>
          <a:xfrm>
            <a:off x="285840" y="1203480"/>
            <a:ext cx="8786880" cy="340020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3"/>
          <a:stretch/>
        </p:blipFill>
        <p:spPr>
          <a:xfrm>
            <a:off x="285840" y="451476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4" descr=""/>
          <p:cNvPicPr/>
          <p:nvPr/>
        </p:nvPicPr>
        <p:blipFill>
          <a:blip r:embed="rId4"/>
          <a:stretch/>
        </p:blipFill>
        <p:spPr>
          <a:xfrm>
            <a:off x="285840" y="494352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5"/>
          <a:stretch/>
        </p:blipFill>
        <p:spPr>
          <a:xfrm>
            <a:off x="285840" y="538308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6"/>
          <a:stretch/>
        </p:blipFill>
        <p:spPr>
          <a:xfrm>
            <a:off x="285840" y="5811840"/>
            <a:ext cx="878688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0" name="Picture 1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420040" cy="31240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3" descr=""/>
          <p:cNvPicPr/>
          <p:nvPr/>
        </p:nvPicPr>
        <p:blipFill>
          <a:blip r:embed="rId2"/>
          <a:stretch/>
        </p:blipFill>
        <p:spPr>
          <a:xfrm>
            <a:off x="1000080" y="4000680"/>
            <a:ext cx="772488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2" name="Picture 1" descr=""/>
          <p:cNvPicPr/>
          <p:nvPr/>
        </p:nvPicPr>
        <p:blipFill>
          <a:blip r:embed="rId1"/>
          <a:stretch/>
        </p:blipFill>
        <p:spPr>
          <a:xfrm>
            <a:off x="785880" y="990720"/>
            <a:ext cx="2171520" cy="43812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2" descr=""/>
          <p:cNvPicPr/>
          <p:nvPr/>
        </p:nvPicPr>
        <p:blipFill>
          <a:blip r:embed="rId2"/>
          <a:stretch/>
        </p:blipFill>
        <p:spPr>
          <a:xfrm>
            <a:off x="714240" y="1623960"/>
            <a:ext cx="752472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Picture 1" descr=""/>
          <p:cNvPicPr/>
          <p:nvPr/>
        </p:nvPicPr>
        <p:blipFill>
          <a:blip r:embed="rId1"/>
          <a:stretch/>
        </p:blipFill>
        <p:spPr>
          <a:xfrm>
            <a:off x="700200" y="938160"/>
            <a:ext cx="7743600" cy="498168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2"/>
          <a:stretch/>
        </p:blipFill>
        <p:spPr>
          <a:xfrm>
            <a:off x="285840" y="98892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4" descr=""/>
          <p:cNvPicPr/>
          <p:nvPr/>
        </p:nvPicPr>
        <p:blipFill>
          <a:blip r:embed="rId3"/>
          <a:stretch/>
        </p:blipFill>
        <p:spPr>
          <a:xfrm>
            <a:off x="285840" y="145908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4"/>
          <a:stretch/>
        </p:blipFill>
        <p:spPr>
          <a:xfrm>
            <a:off x="285840" y="1876320"/>
            <a:ext cx="8786880" cy="146520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"/>
          <p:cNvPicPr/>
          <p:nvPr/>
        </p:nvPicPr>
        <p:blipFill>
          <a:blip r:embed="rId5"/>
          <a:stretch/>
        </p:blipFill>
        <p:spPr>
          <a:xfrm>
            <a:off x="285840" y="334656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6"/>
          <a:stretch/>
        </p:blipFill>
        <p:spPr>
          <a:xfrm>
            <a:off x="285840" y="378000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7"/>
          <a:stretch/>
        </p:blipFill>
        <p:spPr>
          <a:xfrm>
            <a:off x="285840" y="4297320"/>
            <a:ext cx="8786880" cy="6634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4" descr=""/>
          <p:cNvPicPr/>
          <p:nvPr/>
        </p:nvPicPr>
        <p:blipFill>
          <a:blip r:embed="rId8"/>
          <a:stretch/>
        </p:blipFill>
        <p:spPr>
          <a:xfrm>
            <a:off x="285840" y="5132520"/>
            <a:ext cx="8786880" cy="72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Picture 2" descr=""/>
          <p:cNvPicPr/>
          <p:nvPr/>
        </p:nvPicPr>
        <p:blipFill>
          <a:blip r:embed="rId1"/>
          <a:stretch/>
        </p:blipFill>
        <p:spPr>
          <a:xfrm>
            <a:off x="357120" y="843120"/>
            <a:ext cx="838224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Picture 2" descr=""/>
          <p:cNvPicPr/>
          <p:nvPr/>
        </p:nvPicPr>
        <p:blipFill>
          <a:blip r:embed="rId1"/>
          <a:stretch/>
        </p:blipFill>
        <p:spPr>
          <a:xfrm>
            <a:off x="662040" y="1181160"/>
            <a:ext cx="7819920" cy="44956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2"/>
          <a:stretch/>
        </p:blipFill>
        <p:spPr>
          <a:xfrm>
            <a:off x="285840" y="1203480"/>
            <a:ext cx="8786880" cy="89820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4" descr=""/>
          <p:cNvPicPr/>
          <p:nvPr/>
        </p:nvPicPr>
        <p:blipFill>
          <a:blip r:embed="rId3"/>
          <a:stretch/>
        </p:blipFill>
        <p:spPr>
          <a:xfrm>
            <a:off x="285840" y="214308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4" descr=""/>
          <p:cNvPicPr/>
          <p:nvPr/>
        </p:nvPicPr>
        <p:blipFill>
          <a:blip r:embed="rId4"/>
          <a:stretch/>
        </p:blipFill>
        <p:spPr>
          <a:xfrm>
            <a:off x="285840" y="259092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4" descr=""/>
          <p:cNvPicPr/>
          <p:nvPr/>
        </p:nvPicPr>
        <p:blipFill>
          <a:blip r:embed="rId5"/>
          <a:stretch/>
        </p:blipFill>
        <p:spPr>
          <a:xfrm>
            <a:off x="285840" y="3000240"/>
            <a:ext cx="8786880" cy="42408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4" descr=""/>
          <p:cNvPicPr/>
          <p:nvPr/>
        </p:nvPicPr>
        <p:blipFill>
          <a:blip r:embed="rId6"/>
          <a:stretch/>
        </p:blipFill>
        <p:spPr>
          <a:xfrm>
            <a:off x="285840" y="3530520"/>
            <a:ext cx="8786880" cy="69552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4" descr=""/>
          <p:cNvPicPr/>
          <p:nvPr/>
        </p:nvPicPr>
        <p:blipFill>
          <a:blip r:embed="rId7"/>
          <a:stretch/>
        </p:blipFill>
        <p:spPr>
          <a:xfrm>
            <a:off x="285840" y="4378320"/>
            <a:ext cx="8786880" cy="73980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4" descr=""/>
          <p:cNvPicPr/>
          <p:nvPr/>
        </p:nvPicPr>
        <p:blipFill>
          <a:blip r:embed="rId8"/>
          <a:stretch/>
        </p:blipFill>
        <p:spPr>
          <a:xfrm>
            <a:off x="285840" y="5148360"/>
            <a:ext cx="8786880" cy="42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8448480" cy="56005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7858080" y="1389240"/>
            <a:ext cx="465120" cy="3952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7900920" y="6094440"/>
            <a:ext cx="46512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2" descr=""/>
          <p:cNvPicPr/>
          <p:nvPr/>
        </p:nvPicPr>
        <p:blipFill>
          <a:blip r:embed="rId1"/>
          <a:stretch/>
        </p:blipFill>
        <p:spPr>
          <a:xfrm>
            <a:off x="309600" y="1038240"/>
            <a:ext cx="8524800" cy="53910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2"/>
          <a:stretch/>
        </p:blipFill>
        <p:spPr>
          <a:xfrm>
            <a:off x="7943760" y="3143160"/>
            <a:ext cx="46512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299880" y="838080"/>
            <a:ext cx="8544240" cy="58770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2"/>
          <a:stretch/>
        </p:blipFill>
        <p:spPr>
          <a:xfrm>
            <a:off x="7943760" y="2254320"/>
            <a:ext cx="465120" cy="3967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3"/>
          <a:stretch/>
        </p:blipFill>
        <p:spPr>
          <a:xfrm>
            <a:off x="7943760" y="4483080"/>
            <a:ext cx="46512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338040" y="1071720"/>
            <a:ext cx="8467920" cy="540036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2"/>
          <a:stretch/>
        </p:blipFill>
        <p:spPr>
          <a:xfrm>
            <a:off x="7943760" y="1500120"/>
            <a:ext cx="465120" cy="3970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3"/>
          <a:stretch/>
        </p:blipFill>
        <p:spPr>
          <a:xfrm>
            <a:off x="7943760" y="3289320"/>
            <a:ext cx="465120" cy="395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4"/>
          <a:stretch/>
        </p:blipFill>
        <p:spPr>
          <a:xfrm>
            <a:off x="1979640" y="6032520"/>
            <a:ext cx="928800" cy="3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1" descr=""/>
          <p:cNvPicPr/>
          <p:nvPr/>
        </p:nvPicPr>
        <p:blipFill>
          <a:blip r:embed="rId1"/>
          <a:stretch/>
        </p:blipFill>
        <p:spPr>
          <a:xfrm>
            <a:off x="295200" y="1400040"/>
            <a:ext cx="8553600" cy="405792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2"/>
          <a:stretch/>
        </p:blipFill>
        <p:spPr>
          <a:xfrm>
            <a:off x="4500720" y="2786040"/>
            <a:ext cx="465120" cy="7142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3"/>
          <a:stretch/>
        </p:blipFill>
        <p:spPr>
          <a:xfrm>
            <a:off x="1785960" y="4479840"/>
            <a:ext cx="4651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1" descr=""/>
          <p:cNvPicPr/>
          <p:nvPr/>
        </p:nvPicPr>
        <p:blipFill>
          <a:blip r:embed="rId1"/>
          <a:stretch/>
        </p:blipFill>
        <p:spPr>
          <a:xfrm>
            <a:off x="343080" y="1066680"/>
            <a:ext cx="8458200" cy="522000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2"/>
          <a:stretch/>
        </p:blipFill>
        <p:spPr>
          <a:xfrm>
            <a:off x="2857680" y="5346720"/>
            <a:ext cx="4651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1" descr=""/>
          <p:cNvPicPr/>
          <p:nvPr/>
        </p:nvPicPr>
        <p:blipFill>
          <a:blip r:embed="rId1"/>
          <a:stretch/>
        </p:blipFill>
        <p:spPr>
          <a:xfrm>
            <a:off x="338040" y="966960"/>
            <a:ext cx="8467920" cy="55339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2"/>
          <a:stretch/>
        </p:blipFill>
        <p:spPr>
          <a:xfrm>
            <a:off x="6635880" y="2389320"/>
            <a:ext cx="465120" cy="7538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3"/>
          <a:stretch/>
        </p:blipFill>
        <p:spPr>
          <a:xfrm>
            <a:off x="4714920" y="4664160"/>
            <a:ext cx="185724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"/>
          <p:cNvPicPr/>
          <p:nvPr/>
        </p:nvPicPr>
        <p:blipFill>
          <a:blip r:embed="rId1"/>
          <a:stretch/>
        </p:blipFill>
        <p:spPr>
          <a:xfrm>
            <a:off x="452520" y="1014480"/>
            <a:ext cx="8238960" cy="5343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4" descr=""/>
          <p:cNvPicPr/>
          <p:nvPr/>
        </p:nvPicPr>
        <p:blipFill>
          <a:blip r:embed="rId2"/>
          <a:stretch/>
        </p:blipFill>
        <p:spPr>
          <a:xfrm>
            <a:off x="285840" y="4862520"/>
            <a:ext cx="8786880" cy="4237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3"/>
          <a:stretch/>
        </p:blipFill>
        <p:spPr>
          <a:xfrm>
            <a:off x="285840" y="5300640"/>
            <a:ext cx="8786880" cy="4255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4"/>
          <a:stretch/>
        </p:blipFill>
        <p:spPr>
          <a:xfrm>
            <a:off x="285840" y="5751360"/>
            <a:ext cx="878688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7:49:08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